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A66-C863-42EC-92B8-590AA3C8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B9D-F4DF-432A-9BA4-FEB85E81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4F67-CE4C-482C-9CC0-C12514A24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36B-5EAC-4C22-9271-D1A3EE08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A99-B8F0-4864-BDEC-5BAC48B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64E-21C3-42DA-9DC3-BC66F7DA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0F1-DAEA-473B-B465-BF4C56CF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6A2-8EAD-4B04-AB73-6B80ABD9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AC6-C8EA-460B-B8A0-8B8E8BD0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56B-CDA8-45A6-B0FE-4C26ABA7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38F-0C18-493B-8B4F-977DC261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D05-B537-4626-BC6F-9EFD996E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2F8F-8F8F-4F33-80B1-E1202F2915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Banking &amp; Consumer Sm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&amp; 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228600" y="1772640"/>
            <a:ext cx="86104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section is designed to have you take a more detailed look at what influences you spending and the proper utilization of banking servic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How can you be more consumer savv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 does media influence purchasing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factors can influence a person's spending, however one of the most powerful is media. Billions of dollars are spent annually on the advertisement of goods and services and enticing custome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rand name items vs. generic item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y times youth are not interested in generic items because they are not recognized in media. Essentially, name brand items are only more expensive because of their marketing cos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some price differences and cost saving idea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nt, radio and commercial sales techniqu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rketing is a very profitable indust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ppealing in some ads and what it is about the ad that makes you want to spend money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 that these techniques alone can change spending behavi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umer Sma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ow does media make wants seem like needs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goal of some ads is to make youth think the product is "cool" and to create a sense of purchase-pressure.  What influence do friends have on spending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o comparison shopp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 big part of growing up is realizing that we cannot have all of our wants and learning how to compromise. Compare prices in different flyers, clip cou­pons and teach youth about bargaining for prices and services. Comparison shopping is a great a budgeting technique, and will also provide you with ways to accommodate wants with saving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478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hat can banks do for you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What banks and credit unions do?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imilarities and differences between banks and credit union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rvices offered at both banks and credit unions: accounts, loans and money transfer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differences between the two: membership, for-profit v. nonprofit and taxes vs. no taxe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afety of financial institutions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ey, is safe and available. Money kept in banks and credit unions is insured up to $100,000 by the Federal Deposit Insurance Corporation (FDIC) and the National Credit Union Administration (NCUA)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y are checking accounts importan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re are various payment options that come from having a checking account: check, debit card and money order. Despite checks being used less in today‘s economy, it is important for you to know the proper way to write a check, as there are still circumstances when payment by check is requir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to open a checking accou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s of opening a checking account: going to the bank and talking with a representative, filling out an application, giving proper 10, signing a Signature Verification Card and depositing an opening balance. Most formal financial institutions have youth accounts with added safety and lenienc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nking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actice writing a proper check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amine the different parts of a check and what is written in each section: date, payee, amount (in numerals and words), signature, memo, routing number, account number and check number. Remember that it is important to write legibly!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ayment op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re are pros and cons of each payment method: cash, check, bank card, credit card and money orders. Pros and cons should include: safety, tracking ability, credit and transaction cost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admin</cp:lastModifiedBy>
  <dcterms:modified xsi:type="dcterms:W3CDTF">2011-06-08T14:31:47Z</dcterms:modified>
  <cp:revision>9</cp:revision>
  <dc:subject/>
  <dc:title>Road to Financial Maturity</dc:title>
</cp:coreProperties>
</file>